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A27-EF67-4F6B-AF8B-620BC269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8ABA-DFB6-4C09-A4A6-A2F5244D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E70-17B7-492D-9E71-5D5929CD4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F8CC-0837-490A-8693-13948CA0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8FF-0064-4F15-A294-12CF09FA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FCF-3C13-46D9-8D38-1AA2D969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706-96F5-4F93-A5B0-20C4AF7E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8A6-732F-490A-A3A7-24D89143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D3E0-A784-4DA7-A13B-3BA89A3B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EF8-0827-42DD-8D71-172ED00C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7E6-AD2B-4571-81BA-265470F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66F-238C-44E0-8078-923AD82C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D2F7-E30E-4805-B76A-84B36831D4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429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Г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КАРТОГРАФИЧЕСКИЙ МАРАФОН»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mg384"/>
          <p:cNvPicPr/>
          <p:nvPr/>
        </p:nvPicPr>
        <p:blipFill>
          <a:blip r:embed="rId1"/>
          <a:stretch/>
        </p:blipFill>
        <p:spPr>
          <a:xfrm>
            <a:off x="3059280" y="2498760"/>
            <a:ext cx="3270240" cy="325584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507960" y="5754600"/>
            <a:ext cx="8245080" cy="749520"/>
            <a:chOff x="507960" y="5754600"/>
            <a:chExt cx="8245080" cy="749520"/>
          </a:xfrm>
        </p:grpSpPr>
        <p:sp>
          <p:nvSpPr>
            <p:cNvPr id="44" name="AutoShape 6"/>
            <p:cNvSpPr/>
            <p:nvPr/>
          </p:nvSpPr>
          <p:spPr>
            <a:xfrm>
              <a:off x="507960" y="5754600"/>
              <a:ext cx="8245080" cy="7495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7"/>
            <p:cNvSpPr/>
            <p:nvPr/>
          </p:nvSpPr>
          <p:spPr>
            <a:xfrm>
              <a:off x="658800" y="5801040"/>
              <a:ext cx="7928280" cy="581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6600"/>
                  </a:solidFill>
                  <a:latin typeface="Calibri"/>
                  <a:ea typeface="Arial"/>
                </a:rPr>
                <a:t>6-7 класс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2" descr=""/>
          <p:cNvPicPr/>
          <p:nvPr/>
        </p:nvPicPr>
        <p:blipFill>
          <a:blip r:embed="rId1"/>
          <a:stretch/>
        </p:blipFill>
        <p:spPr>
          <a:xfrm>
            <a:off x="0" y="115920"/>
            <a:ext cx="89647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2" descr=""/>
          <p:cNvPicPr/>
          <p:nvPr/>
        </p:nvPicPr>
        <p:blipFill>
          <a:blip r:embed="rId1"/>
          <a:stretch/>
        </p:blipFill>
        <p:spPr>
          <a:xfrm>
            <a:off x="108000" y="0"/>
            <a:ext cx="89596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Объект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036000" cy="66261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54080" y="115920"/>
            <a:ext cx="89643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941480" y="260280"/>
            <a:ext cx="476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4 ту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ПАСАТЕЛ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37064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0" y="2421000"/>
            <a:ext cx="802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r>
              <a:rPr b="1" i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.ш.  148</a:t>
            </a:r>
            <a:r>
              <a:rPr b="1" i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.д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i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ю.ш.   45</a:t>
            </a:r>
            <a:r>
              <a:rPr b="1" i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.д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i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с.ш.   80</a:t>
            </a:r>
            <a:r>
              <a:rPr b="1" i="1" lang="ru-RU" sz="5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.д.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"/>
          <p:cNvSpPr/>
          <p:nvPr/>
        </p:nvSpPr>
        <p:spPr>
          <a:xfrm>
            <a:off x="468360" y="260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473200" y="260280"/>
            <a:ext cx="463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ту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РАНОВЕ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"/>
          <p:cNvPicPr/>
          <p:nvPr/>
        </p:nvPicPr>
        <p:blipFill>
          <a:blip r:embed="rId1"/>
          <a:stretch/>
        </p:blipFill>
        <p:spPr>
          <a:xfrm>
            <a:off x="1022400" y="2276640"/>
            <a:ext cx="7534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img304"/>
          <p:cNvPicPr/>
          <p:nvPr/>
        </p:nvPicPr>
        <p:blipFill>
          <a:blip r:embed="rId1"/>
          <a:stretch/>
        </p:blipFill>
        <p:spPr>
          <a:xfrm>
            <a:off x="1619280" y="2265480"/>
            <a:ext cx="5689440" cy="4533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71640" y="404640"/>
            <a:ext cx="75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ОЗДРАВЛЯЕМ ПОБЕДИТЕЛЕЙ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468360" y="260280"/>
            <a:ext cx="85676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Пользуясь термометром, оцените «погоду» во время игр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36,6 градусов – увлекательно, поле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39 градусов – слишком сложно, не интере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63636"/>
                </a:solidFill>
                <a:latin typeface="Times New Roman"/>
                <a:ea typeface="Times New Roman"/>
              </a:rPr>
              <a:t>34 градуса – слишком просто, бесполез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63636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Объект 4" descr=""/>
          <p:cNvPicPr/>
          <p:nvPr/>
        </p:nvPicPr>
        <p:blipFill>
          <a:blip r:embed="rId1"/>
          <a:stretch/>
        </p:blipFill>
        <p:spPr>
          <a:xfrm>
            <a:off x="1368360" y="1916280"/>
            <a:ext cx="6407280" cy="4465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23080" y="340200"/>
            <a:ext cx="8097840" cy="122220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 тур</a:t>
            </a:r>
            <a:br>
              <a:rPr sz="4400"/>
            </a:br>
            <a:r>
              <a:rPr b="1" i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ЭРУДИ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/>
          <p:cNvSpPr/>
          <p:nvPr/>
        </p:nvSpPr>
        <p:spPr>
          <a:xfrm>
            <a:off x="1258920" y="549360"/>
            <a:ext cx="6842160" cy="15112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 ту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С ЧИСТОГО ЛИСТ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1060560" y="2349360"/>
            <a:ext cx="7056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9"/>
          <p:cNvSpPr/>
          <p:nvPr/>
        </p:nvSpPr>
        <p:spPr>
          <a:xfrm>
            <a:off x="914400" y="287280"/>
            <a:ext cx="7236000" cy="1557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3 ту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ЧЕМПИОН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82472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247680" y="115920"/>
            <a:ext cx="86486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Объект 2" descr=""/>
          <p:cNvPicPr/>
          <p:nvPr/>
        </p:nvPicPr>
        <p:blipFill>
          <a:blip r:embed="rId1"/>
          <a:stretch/>
        </p:blipFill>
        <p:spPr>
          <a:xfrm>
            <a:off x="7920" y="0"/>
            <a:ext cx="92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Объект 2" descr=""/>
          <p:cNvPicPr/>
          <p:nvPr/>
        </p:nvPicPr>
        <p:blipFill>
          <a:blip r:embed="rId1"/>
          <a:stretch/>
        </p:blipFill>
        <p:spPr>
          <a:xfrm>
            <a:off x="3240" y="115920"/>
            <a:ext cx="90025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2" descr=""/>
          <p:cNvPicPr/>
          <p:nvPr/>
        </p:nvPicPr>
        <p:blipFill>
          <a:blip r:embed="rId1"/>
          <a:stretch/>
        </p:blipFill>
        <p:spPr>
          <a:xfrm>
            <a:off x="0" y="115920"/>
            <a:ext cx="905040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7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5T11:00:43Z</dcterms:created>
  <dc:creator>Вылегжанина_ТВ</dc:creator>
  <dc:description/>
  <dc:language>en-US</dc:language>
  <cp:lastModifiedBy>user</cp:lastModifiedBy>
  <dcterms:modified xsi:type="dcterms:W3CDTF">2017-04-02T16:27:41Z</dcterms:modified>
  <cp:revision>45</cp:revision>
  <dc:subject/>
  <dc:title>Слайд 1</dc:title>
</cp:coreProperties>
</file>